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152-E5CD-4D5B-8DCE-AC3FB1A7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50C5-0DC7-40D9-84F9-FCB075E2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669-947A-4B64-B25C-C3E1C8D3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092D-5D44-4304-A1D3-840573E4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B8D7-69D4-4E87-98C7-8C613581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FD61-D856-497E-A770-743EEE7F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3C0D-FDBB-4BDE-BE14-EE994749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89E8-B547-474A-A991-3525F1CC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9579-561E-44AC-AFC5-726BD3E2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D16C-3281-4C6D-9D4F-1C65A1E4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FEB0-793C-4274-8C89-C89EA204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8A2A-24F5-4988-9A94-2F82F1DA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8E37-93D9-4CC6-BAC9-DCDF2FB0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0B5A-EC0E-473F-A41E-91ABB4D7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0ED3-9D64-42E8-A9DD-454B8A2E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1354-2926-41F0-B8B0-0DD2F6CA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0CB9-344E-4A67-AE20-F880A4CC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86A8-183B-4CBC-99FB-1847EA9F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B85C-61EF-4BD0-BA25-5032C6FB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ED02-58A9-4261-A28C-6CB4C50A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59BA-CFED-43F1-8E67-D0C48AEF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9C74-D02C-4214-8A40-9891F5EE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6441-DFAF-438D-A2EC-881C0D29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51FD-E66C-49A6-BF6B-03B49F9C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47FE-550A-4D07-A10E-D73AEF6EFE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BB23-7036-45B0-9B2B-725AF5F3BE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32130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66ff"/>
                </a:solidFill>
                <a:latin typeface="Forte"/>
              </a:rPr>
              <a:t>Cara Deborah…..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8098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2565000"/>
            <a:ext cx="8435880" cy="38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66ff"/>
                </a:solidFill>
                <a:latin typeface="Forte"/>
              </a:rPr>
              <a:t>Grazie quindi a te, Deborah, per aver contribuito alla mia/nostra crescita e al professor Lariccia per essere riuscito ad aprire nuovi spiragli di luce nella nostra testa!!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692280"/>
            <a:ext cx="1893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35280" y="1052640"/>
            <a:ext cx="698472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Forte"/>
              </a:rPr>
              <a:t>..so bene che esserti sottoposta alla nostra intervista non è stata cosa semplice ma grazie a te abbiamo visto il mondo della scuola sotto un altro punto di vista.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948360" y="4869000"/>
            <a:ext cx="1743120" cy="1685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187164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79760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Forte"/>
              </a:rPr>
              <a:t>..ora però voglio inserirti nel nostro mondo, quello universitario! 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Forte"/>
              </a:rPr>
              <a:t>In questo mondo siamo riuscite ad aggiungere un piccolo mattoncino alla nostra esperienza personale, lavorando in gruppo per l’esame di matematica.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227640" y="4581360"/>
            <a:ext cx="221004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25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Forte"/>
              </a:rPr>
              <a:t>..siamo riuscite a cogliere una nuova sfaccettatura nel modo di insegnare attraverso le nuove tecnologie in modo da staccarsi dal vecchio mondo scolastico.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2663640" cy="1890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780000" y="4581360"/>
            <a:ext cx="1076040" cy="989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508720" y="4149720"/>
            <a:ext cx="29890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66ff"/>
                </a:solidFill>
                <a:latin typeface="Forte"/>
              </a:rPr>
              <a:t>..un mondo in cui i bambini attraverso iplozero e QQ.storie possono andare a sviluppare non solo la loro fantasia ma anche un nuovo mondo con i numeri, le forme e i colori.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59280" y="4508640"/>
            <a:ext cx="292716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Forte"/>
              </a:rPr>
              <a:t>..ma non solo questo, cara Deborah, sono anche riuscita a ritrovare un matematico importante come Nash con l’aiuto di un libro e del film “A Beautiful Mind”.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19640" y="3645000"/>
            <a:ext cx="1704960" cy="2685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372360" y="4005360"/>
            <a:ext cx="2403360" cy="2090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95280" y="3933720"/>
            <a:ext cx="1444680" cy="185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340000" y="4616280"/>
            <a:ext cx="765000" cy="574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364000" y="4581360"/>
            <a:ext cx="768600" cy="5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5472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Forte"/>
              </a:rPr>
              <a:t>..e oltre a Nash abbiamo riscoperto un sistema di numerazione elaborato in base 3 dal nostro gruppo.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28130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Forte"/>
              </a:rPr>
              <a:t>..ho anche scoperto una nuova mamma: dalla scolaretta all’universitaria, passando per un mondo matematico che da sempre l’ha appassionata.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16000" y="4437000"/>
            <a:ext cx="1400040" cy="2116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724360" y="4724280"/>
            <a:ext cx="2629080" cy="1733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492360" y="4581360"/>
            <a:ext cx="14097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716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Forte"/>
              </a:rPr>
              <a:t>..è stata un’esperienza che ha contribuito ad arricchire il mio mondo di studente, futura maestra ma anche persona!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76720" y="3933720"/>
            <a:ext cx="26463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08:10:59Z</dcterms:created>
  <dc:creator>Sistemi Informativi</dc:creator>
  <dc:description/>
  <dc:language>en-US</dc:language>
  <cp:lastModifiedBy>Sistemi Informativi</cp:lastModifiedBy>
  <dcterms:modified xsi:type="dcterms:W3CDTF">2011-02-11T08:49:45Z</dcterms:modified>
  <cp:revision>2</cp:revision>
  <dc:subject/>
  <dc:title>Cara Deborah…..</dc:title>
</cp:coreProperties>
</file>